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B04E-89E4-4A09-97BB-A8AD54B357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in the camps, using sources A, C, D &amp; E. Cramped, sanitation, hopelessness, unemployed etc + resentement/anger at Deir Yassi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ed defeat of Arab nations in 48, 56, 67 &amp; 73: they can’t do it, so Palestinians have to do themselves. Support from other Arab nations: financial &amp; military – a way of causing instability for Israel and keeping the pressure on. Egypt in particular actively funded and encouraged Fedayeen attacks after mid 50’s. Arab nations themselves receive super power support from USSR. Example is the PLO: large and sophisticated organization that could not have existed without government support – not simply a refugee camp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ach a settlement: refugees in ‘limbo land’: Arab nations won’t assimilate them for fear o f legitimizing Israeli aggression, Israel won’t take them back (shooting of infilitrators). When peace deals where reached Palestinians often excluded from negotiations, leading to even more resentment and hopelessness and therefore violence e.g. Camp David</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onically one of the major reasons for Palestinian resistance may be the sometimes heavy handed response of Israeli armed forces with massive reprisal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8B12C-D646-4361-BF14-B0814BFE4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CFD97-85D9-4E5B-ACF0-C95496964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46CB9-49A2-4533-9BF0-51CF651C4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634B5-0D3A-4938-9803-2BE7665F8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E034-505B-4E55-8159-80AB75C4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C916-2D04-4DF1-B0EC-45F7BAA3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8525-612D-4315-81D8-87DE0429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F8062-FB77-4CD0-888D-3599B3AE5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C6E46-8225-4BB7-8E04-B5D80DFD8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44BEF-65A3-4AE6-8D72-4DE6BE41A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B145C-67F2-417D-B94C-7E0C0C032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71CA-F08A-46B9-AFEF-A3D7E8380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D879-FC58-43AE-84CC-88F8969BB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752120"/>
            <a:ext cx="7924680" cy="1600200"/>
          </a:xfrm>
          <a:prstGeom prst="rect">
            <a:avLst/>
          </a:prstGeom>
          <a:solidFill>
            <a:srgbClr val="ffffff">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SimSun"/>
              </a:rPr>
              <a:t>Source E suggests that Palestinian resistance came about</a:t>
            </a:r>
            <a:br>
              <a:rPr sz="2600"/>
            </a:br>
            <a:r>
              <a:rPr b="0" lang="en-GB" sz="2600" spc="-1" strike="noStrike">
                <a:solidFill>
                  <a:srgbClr val="000000"/>
                </a:solidFill>
                <a:latin typeface="Times New Roman"/>
                <a:ea typeface="SimSun"/>
              </a:rPr>
              <a:t>as a result of the Refugee camps in neighbouring countries.  Do you agree that this was the case? (12 mark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you agree? How far do you agr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ember</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er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the sources where you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including ‘background knowledge’ be as specific as you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the question throughout: did Palestinian resistance come about as a result of the refugee camps in neighbouring countries? Remember to explore alternative explanations/possibil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dance</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ound 800 w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o use ‘infer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the sources: remember to quote and/or refer to the sources you have been given wherever relev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o both explore the evidence supporting the statement in the question  and also explore alternative explanations/reasons for Palestinian resist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844280"/>
            <a:ext cx="5580000" cy="514260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SimSun"/>
              </a:rPr>
              <a:t>Source 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SimSun"/>
              </a:rPr>
              <a:t>	</a:t>
            </a:r>
            <a:r>
              <a:rPr b="0" i="1" lang="en-GB" sz="2400" spc="-1" strike="noStrike">
                <a:solidFill>
                  <a:srgbClr val="000000"/>
                </a:solidFill>
                <a:latin typeface="Times New Roman"/>
                <a:ea typeface="SimSun"/>
              </a:rPr>
              <a:t>A Palestinian refugee talking about her son just after she had heard about his death in a raid on Isra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 am proud that my son did not die in th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refugee camp. The foreign press come he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and take pictures of us standing in queu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o  get food rations. This is no life. I a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proud my son died in action, fighting f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our occupied soil. I am already prepar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my younger son for the day he can fight f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freedom to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type="title"/>
          </p:nvPr>
        </p:nvSpPr>
        <p:spPr>
          <a:xfrm>
            <a:off x="609480" y="228240"/>
            <a:ext cx="8229600" cy="1523880"/>
          </a:xfrm>
          <a:prstGeom prst="rect">
            <a:avLst/>
          </a:prstGeom>
          <a:solidFill>
            <a:srgbClr val="ffffff">
              <a:alpha val="8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SimSun"/>
              </a:rPr>
              <a:t>Source E suggests that Palestinian resistance came about</a:t>
            </a:r>
            <a:br>
              <a:rPr sz="2600"/>
            </a:br>
            <a:r>
              <a:rPr b="0" lang="en-GB" sz="2600" spc="-1" strike="noStrike">
                <a:solidFill>
                  <a:srgbClr val="000000"/>
                </a:solidFill>
                <a:latin typeface="Times New Roman"/>
                <a:ea typeface="SimSun"/>
              </a:rPr>
              <a:t>as a result of the Refugee camps in neighbouring countries.  Do you agree that this was the case? (12 marks)</a:t>
            </a:r>
            <a:endParaRPr b="0" lang="en-US" sz="2600" spc="-1" strike="noStrike">
              <a:solidFill>
                <a:srgbClr val="000000"/>
              </a:solidFill>
              <a:latin typeface="Arial"/>
            </a:endParaRPr>
          </a:p>
        </p:txBody>
      </p:sp>
      <p:sp>
        <p:nvSpPr>
          <p:cNvPr id="53" name=""/>
          <p:cNvSpPr/>
          <p:nvPr/>
        </p:nvSpPr>
        <p:spPr>
          <a:xfrm>
            <a:off x="5651640" y="2852640"/>
            <a:ext cx="3492360" cy="25718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reasons does this refugee give for her son becoming involved in Palestian resist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y did resistance come about?</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use the sources and your own knowledge discuss how and why Palestinian resistance came about: add you ideas to the central mind m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ditions in the camps</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sources could you use to support the argument that the conditions/situation in the camps led to Palestinian res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eat of Arab armie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ould the repeated defeat of Arab armies in wars against Israel be a factor that led to Palestinian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supported and funded the PLO &amp; other groups,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ilure to reach a deal</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choices do Palestinian refugees have other than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id Camp David do for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ycle of violence</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raeli repris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 67</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longer just refugee camps in neighbouring countries! Now occupied territ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2:27:27Z</dcterms:created>
  <dc:creator>Mr. Wright</dc:creator>
  <dc:description/>
  <dc:language>en-US</dc:language>
  <cp:lastModifiedBy>Mr. Wright</cp:lastModifiedBy>
  <dcterms:modified xsi:type="dcterms:W3CDTF">2008-11-11T07:34:40Z</dcterms:modified>
  <cp:revision>12</cp:revision>
  <dc:subject/>
  <dc:title>PowerPoint Presentation</dc:title>
</cp:coreProperties>
</file>